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8F54E-3439-4D49-B411-6129A65EAA1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609A1-9B70-4A60-8513-FF03171F149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9683F-2EA1-4160-925A-086B9729B3D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2623A-EF3A-4999-AED6-D7A2C00A652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50F22-111A-4D1D-8665-BAFC1E2A6AD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DA22-0CCF-477F-8ACB-DE66CC46C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ABFA-86BC-41EF-8B01-8D3FEB40D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926A-C5F3-423C-928A-5D1ECB91D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9D24-921C-40BA-940B-E727AE5D3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3B4E-8DE4-42FC-8F1F-66C1085273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D64A-C3C0-4DC3-BFB5-F75E2889BF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E407-8D7E-4156-81D9-F782618D64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5332-BC7D-4FA1-82C5-FFA5ECB868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4DD8-0138-44B4-A4D9-C445C02E50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34BF-1285-42F4-86E8-04178EA6EC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3E06-D1BB-4A0F-931A-92D1A1A2B9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9B6F-0BE6-4D61-894A-9CC1E3A34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D4F6D-51A7-457E-B42F-98BDEA39BD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9CD7-EA1F-4C84-B8A4-2A2DA84590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0D55-4D06-4DB8-A1FA-392C7E29DC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F2CF-D4B9-44FA-BB21-C267756690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93B5-9EE6-4431-9D81-C0B72C23C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C579-7288-4EDC-A2AE-EB55787EE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6114-D99E-48A5-A9D1-B80279305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6CC0-0AA5-4B56-BB3C-12BD2DA9E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178F-4F53-4F69-BF2F-95D53DB79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CA1A-E9BE-4047-B104-8B2585561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B315-C184-4EED-A352-8005B3E4B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2DCD-3213-4D37-8417-841D6DFBE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2280" y="3104640"/>
            <a:ext cx="6208920" cy="22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FE6F1C-9280-4E7B-AED6-E921DC260FB0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0A8CD48C-4998-402C-9FF2-B3535F98CA42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D15123-98E4-4B16-B087-E38D99375053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56411EE1-282D-4330-B997-FD67A29229EC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852640" y="3105000"/>
            <a:ext cx="6210360" cy="2237040"/>
          </a:xfrm>
          <a:prstGeom prst="rect">
            <a:avLst/>
          </a:prstGeom>
          <a:solidFill>
            <a:srgbClr val="ed0c8b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Doorontwik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Meta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7160" y="5886360"/>
            <a:ext cx="5416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xpertgroep informatiemodellen 10 februari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llen De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1 Terugbli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uitgangspunten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Metamodel ERD2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2 SO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 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Aanpassing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Metamodel Referentiemodellen Gemeentelij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   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Basisgegevens (RG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:1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pecificaties (=tekst) als ba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Voorkomen interpretatie van specifica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géén inhoudelijke wijzigingen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behoud van alle inform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el 1"/>
          <p:cNvSpPr/>
          <p:nvPr/>
        </p:nvSpPr>
        <p:spPr>
          <a:xfrm>
            <a:off x="15717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Uitgang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conversie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el 1"/>
          <p:cNvSpPr/>
          <p:nvPr/>
        </p:nvSpPr>
        <p:spPr>
          <a:xfrm>
            <a:off x="157176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08000" y="642960"/>
            <a:ext cx="9036000" cy="607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 Terugbli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uitgangspunten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Metamodel ERD2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2 SO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      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Aanpassing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Metamodel Referentiemode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         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Gemeentelijke Basisgegevens (RG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el 1"/>
          <p:cNvSpPr/>
          <p:nvPr/>
        </p:nvSpPr>
        <p:spPr>
          <a:xfrm>
            <a:off x="157176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Aanpass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357120" y="714240"/>
            <a:ext cx="84600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Constructie groepattribuutsoort is aangepast, hierdoor zijn geneste groepattribuutsoorten mogelijk en dus generiek toepasbaar binnen het stels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Aanpassing constructie leidt tot het vervallen van stereotypes Subattribuutsoort, Subrelatiesoort en Subgroepattribuutsoor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emantisch  / inhoudelijk is groepattribuutsoort niet gewijzig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attributen binnen een groep wijzigen gezamenlij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Nieuw stereotypes Datatype, Referentielijst en Referentiegegeven toegevoeg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Opname stereotype Tekentechnisch t.b.v. presentatie in diagramme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el 1"/>
          <p:cNvSpPr/>
          <p:nvPr/>
        </p:nvSpPr>
        <p:spPr>
          <a:xfrm>
            <a:off x="157176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Soll: Metamodel R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28760" y="419040"/>
            <a:ext cx="7586640" cy="665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Arjan Kloosterboer</dc:creator>
  <dc:description/>
  <dc:language>en-US</dc:language>
  <cp:lastModifiedBy>Debat_E</cp:lastModifiedBy>
  <dcterms:modified xsi:type="dcterms:W3CDTF">2011-01-23T10:07:15Z</dcterms:modified>
  <cp:revision>179</cp:revision>
  <dc:subject/>
  <dc:title>Dia 1</dc:title>
</cp:coreProperties>
</file>